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1F3-8F25-41A7-BD22-5EF9E810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4DB-9FB5-4C02-8815-0E9FF0522A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569-7BAC-4F5D-AE38-B61FCDCC5E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B55-46A3-432F-B667-6AF0D635822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EFB-D58D-40AD-8F72-11C57058D2C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D4BE-591D-4F71-BAD4-EE483D605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3917-12E9-4D54-AA32-7F5FB0286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2875-5A5D-42F5-9AFB-89615EF66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C6D0-D41E-4FB1-BA44-54ED2841D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C3E5-3297-4BA8-A0FC-8901A3954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EE20-C255-4C21-B766-63F41F445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94BC-0066-418B-9D79-DDBFD312D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329E-AE33-4339-933E-E8BEADB79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2EEA-67F7-4ECE-A39E-9FAF64631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BADB-EB80-448C-BC3F-AC01B39BD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3398-F054-410B-9125-3883F7017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FE58-401A-4E4C-82EA-DCAA186C2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6A9-E06D-4273-91BF-B1F745E8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ma.ua.edu/~jhartman/689/compute.ppt" TargetMode="External"/><Relationship Id="rId2" Type="http://schemas.openxmlformats.org/officeDocument/2006/relationships/hyperlink" Target="http://bama.ua.edu/~jhartman/689/syntax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343-00DB-4999-A3C5-B6F04E63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Covariance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(Regression Approach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728-6FD7-4C72-92C6-24D354FA3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2" descr="C:\BCT 689\PowerPoint\spss gifs\mlr\regress3.gif"/>
          <p:cNvPicPr/>
          <p:nvPr/>
        </p:nvPicPr>
        <p:blipFill>
          <a:blip r:embed="rId1"/>
          <a:srcRect l="3638" t="0" r="0" b="1351"/>
          <a:stretch/>
        </p:blipFill>
        <p:spPr>
          <a:xfrm>
            <a:off x="4572000" y="2971800"/>
            <a:ext cx="4119480" cy="2019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6400800" y="434340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028D-B2F3-4765-9A3D-D117AA4F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" descr="C:\BCT 689\PowerPoint\spss gifs\mlr\regress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71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48316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483160" y="350820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ATRICULATON DATE - YE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which is already highlighted, to the box labeled</a:t>
            </a:r>
            <a:br>
              <a:rPr sz="2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ndependent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899-5772-4EF7-8637-4E1E2377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026" descr="C:\BCT 689\PowerPoint\spss gifs\mlr\matyr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2" name="AutoShape 1028">
            <a:hlinkClick r:id="" action="ppaction://hlinkshowjump?jump=nextslide"/>
          </p:cNvPr>
          <p:cNvSpPr/>
          <p:nvPr/>
        </p:nvSpPr>
        <p:spPr>
          <a:xfrm>
            <a:off x="1752480" y="2590920"/>
            <a:ext cx="228600" cy="24382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38280"/>
              <a:gd name="textAreaBottom" fmla="*/ 2423520 h 2438280"/>
            </a:gdLst>
            <a:ahLst/>
            <a:rect l="textAreaLeft" t="textAreaTop" r="textAreaRight" b="textAreaBottom"/>
            <a:pathLst>
              <a:path w="21600" h="230060">
                <a:moveTo>
                  <a:pt x="0" y="0"/>
                </a:moveTo>
                <a:lnTo>
                  <a:pt x="21600" y="0"/>
                </a:lnTo>
                <a:lnTo>
                  <a:pt x="21600" y="230060"/>
                </a:lnTo>
                <a:lnTo>
                  <a:pt x="0" y="230060"/>
                </a:lnTo>
                <a:close/>
              </a:path>
              <a:path fill="lightenLess" w="21600" h="230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060">
                <a:moveTo>
                  <a:pt x="21600" y="0"/>
                </a:moveTo>
                <a:lnTo>
                  <a:pt x="21600" y="230060"/>
                </a:lnTo>
                <a:lnTo>
                  <a:pt x="20200" y="228660"/>
                </a:lnTo>
                <a:lnTo>
                  <a:pt x="20200" y="1400"/>
                </a:lnTo>
                <a:close/>
              </a:path>
              <a:path fill="darkenLess" w="21600" h="230060">
                <a:moveTo>
                  <a:pt x="21600" y="230060"/>
                </a:moveTo>
                <a:lnTo>
                  <a:pt x="0" y="230060"/>
                </a:lnTo>
                <a:lnTo>
                  <a:pt x="1400" y="228660"/>
                </a:lnTo>
                <a:lnTo>
                  <a:pt x="20200" y="228660"/>
                </a:lnTo>
                <a:close/>
              </a:path>
              <a:path fill="lighten" w="21600" h="230060">
                <a:moveTo>
                  <a:pt x="0" y="230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6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029"/>
          <p:cNvSpPr/>
          <p:nvPr/>
        </p:nvSpPr>
        <p:spPr>
          <a:xfrm>
            <a:off x="5410080" y="2209680"/>
            <a:ext cx="35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81CB-E7FA-4409-B04B-251AA1DF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2" descr="C:\BCT 689\PowerPoint\spss gifs\mlr\matyr3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762120" y="30481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0D61-AFA6-4B18-B4F0-9E2E8481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7" descr="C:\BCT 689\PowerPoint\spss gifs\ancova regr\ancova01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762120" y="3149640"/>
            <a:ext cx="1143000" cy="152280"/>
          </a:xfrm>
          <a:custGeom>
            <a:avLst/>
            <a:gdLst>
              <a:gd name="textAreaLeft" fmla="*/ 9720 w 1143000"/>
              <a:gd name="textAreaRight" fmla="*/ 1133280 w 11430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61796" h="21600">
                <a:moveTo>
                  <a:pt x="0" y="0"/>
                </a:moveTo>
                <a:lnTo>
                  <a:pt x="161796" y="0"/>
                </a:lnTo>
                <a:lnTo>
                  <a:pt x="161796" y="21600"/>
                </a:lnTo>
                <a:lnTo>
                  <a:pt x="0" y="21600"/>
                </a:lnTo>
                <a:close/>
              </a:path>
              <a:path fill="lightenLess" w="161796" h="21600">
                <a:moveTo>
                  <a:pt x="0" y="0"/>
                </a:moveTo>
                <a:lnTo>
                  <a:pt x="161796" y="0"/>
                </a:lnTo>
                <a:lnTo>
                  <a:pt x="160396" y="1400"/>
                </a:lnTo>
                <a:lnTo>
                  <a:pt x="1400" y="1400"/>
                </a:lnTo>
                <a:close/>
              </a:path>
              <a:path fill="darken" w="161796" h="21600">
                <a:moveTo>
                  <a:pt x="161796" y="0"/>
                </a:moveTo>
                <a:lnTo>
                  <a:pt x="161796" y="21600"/>
                </a:lnTo>
                <a:lnTo>
                  <a:pt x="160396" y="20200"/>
                </a:lnTo>
                <a:lnTo>
                  <a:pt x="160396" y="1400"/>
                </a:lnTo>
                <a:close/>
              </a:path>
              <a:path fill="darkenLess" w="161796" h="21600">
                <a:moveTo>
                  <a:pt x="16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96" y="20200"/>
                </a:lnTo>
                <a:close/>
              </a:path>
              <a:path fill="lighten" w="16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83160" y="220968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, point to the variable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MCAT TOTAL 1992-PRESENT, MOST RECENT [nmtot1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1BD-F0DF-4527-806F-E895CB87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6" descr="C:\BCT 689\PowerPoint\spss gifs\ancova regr\ancova02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410080" y="25131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mtot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21337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F74-6186-47B1-A275-DBAB6C1E7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2" descr="C:\BCT 689\PowerPoint\spss gifs\mlr\matyr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1752480" y="2514600"/>
            <a:ext cx="228600" cy="2590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590920"/>
              <a:gd name="textAreaBottom" fmla="*/ 2576160 h 2590920"/>
            </a:gdLst>
            <a:ahLst/>
            <a:rect l="textAreaLeft" t="textAreaTop" r="textAreaRight" b="textAreaBottom"/>
            <a:pathLst>
              <a:path w="21600" h="244460">
                <a:moveTo>
                  <a:pt x="0" y="0"/>
                </a:moveTo>
                <a:lnTo>
                  <a:pt x="21600" y="0"/>
                </a:lnTo>
                <a:lnTo>
                  <a:pt x="21600" y="244460"/>
                </a:lnTo>
                <a:lnTo>
                  <a:pt x="0" y="244460"/>
                </a:lnTo>
                <a:close/>
              </a:path>
              <a:path fill="lightenLess" w="21600" h="2444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60">
                <a:moveTo>
                  <a:pt x="21600" y="0"/>
                </a:moveTo>
                <a:lnTo>
                  <a:pt x="21600" y="244460"/>
                </a:lnTo>
                <a:lnTo>
                  <a:pt x="20200" y="243060"/>
                </a:lnTo>
                <a:lnTo>
                  <a:pt x="20200" y="1400"/>
                </a:lnTo>
                <a:close/>
              </a:path>
              <a:path fill="darkenLess" w="21600" h="244460">
                <a:moveTo>
                  <a:pt x="21600" y="244460"/>
                </a:moveTo>
                <a:lnTo>
                  <a:pt x="0" y="244460"/>
                </a:lnTo>
                <a:lnTo>
                  <a:pt x="1400" y="243060"/>
                </a:lnTo>
                <a:lnTo>
                  <a:pt x="20200" y="243060"/>
                </a:lnTo>
                <a:close/>
              </a:path>
              <a:path fill="lighten" w="21600" h="244460">
                <a:moveTo>
                  <a:pt x="0" y="2444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06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6400" y="25131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B51-1730-434E-98A0-1957A8BB9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7" descr="C:\BCT 689\PowerPoint\spss gifs\ancova regr\ancova04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762120" y="4597560"/>
            <a:ext cx="533160" cy="190440"/>
          </a:xfrm>
          <a:custGeom>
            <a:avLst/>
            <a:gdLst>
              <a:gd name="textAreaLeft" fmla="*/ 12240 w 533160"/>
              <a:gd name="textAreaRight" fmla="*/ 520920 w 53316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486400" y="2513160"/>
            <a:ext cx="335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to the bottom of the list, and click the dummy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E88-CBAB-472E-A5D5-3AAA8E73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6" descr="C:\BCT 689\PowerPoint\spss gifs\ancova regr\ancova05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62120" y="4737240"/>
            <a:ext cx="1066680" cy="215640"/>
          </a:xfrm>
          <a:custGeom>
            <a:avLst/>
            <a:gdLst>
              <a:gd name="textAreaLeft" fmla="*/ 13680 w 1066680"/>
              <a:gd name="textAreaRight" fmla="*/ 1053000 w 10666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6704" h="21600">
                <a:moveTo>
                  <a:pt x="0" y="0"/>
                </a:moveTo>
                <a:lnTo>
                  <a:pt x="106704" y="0"/>
                </a:lnTo>
                <a:lnTo>
                  <a:pt x="106704" y="21600"/>
                </a:lnTo>
                <a:lnTo>
                  <a:pt x="0" y="21600"/>
                </a:lnTo>
                <a:close/>
              </a:path>
              <a:path fill="lightenLess" w="106704" h="21600">
                <a:moveTo>
                  <a:pt x="0" y="0"/>
                </a:moveTo>
                <a:lnTo>
                  <a:pt x="106704" y="0"/>
                </a:lnTo>
                <a:lnTo>
                  <a:pt x="105304" y="1400"/>
                </a:lnTo>
                <a:lnTo>
                  <a:pt x="1400" y="1400"/>
                </a:lnTo>
                <a:close/>
              </a:path>
              <a:path fill="darken" w="106704" h="21600">
                <a:moveTo>
                  <a:pt x="106704" y="0"/>
                </a:moveTo>
                <a:lnTo>
                  <a:pt x="106704" y="21600"/>
                </a:lnTo>
                <a:lnTo>
                  <a:pt x="105304" y="20200"/>
                </a:lnTo>
                <a:lnTo>
                  <a:pt x="105304" y="1400"/>
                </a:lnTo>
                <a:close/>
              </a:path>
              <a:path fill="darkenLess" w="106704" h="21600">
                <a:moveTo>
                  <a:pt x="10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304" y="20200"/>
                </a:lnTo>
                <a:close/>
              </a:path>
              <a:path fill="lighten" w="10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486400" y="251316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 both dummy variables by holding down the 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key and click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14A-A4F0-422B-A723-4E390B5E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6" descr="C:\BCT 689\PowerPoint\spss gifs\ancova regr\ancova06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43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86400" y="2514600"/>
            <a:ext cx="320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both dummy variables (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major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to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labele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dependent(s)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2133720" y="3581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519-ED7C-4415-9087-436574FD3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229716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ariance (ANCOVA) is use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joint significance of predictors on a continuous outcome (GLM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generate prediction equations for various levels of a categorical predictor (regression approa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48FC-27CC-4BDC-9612-575C0AF0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C:\BCT 689\PowerPoint\spss gifs\ancova regr\ancova07.gif"/>
          <p:cNvPicPr/>
          <p:nvPr/>
        </p:nvPicPr>
        <p:blipFill>
          <a:blip r:embed="rId1"/>
          <a:stretch/>
        </p:blipFill>
        <p:spPr>
          <a:xfrm>
            <a:off x="611280" y="2192400"/>
            <a:ext cx="4570200" cy="3433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5483160" y="2513160"/>
            <a:ext cx="343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ANCOVA (regression approach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648320" y="246384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98E7-88DA-4167-B961-DDEF058A7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Variables Entered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867280" y="2820960"/>
            <a:ext cx="2743200" cy="155700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8" descr="C:\BCT 689\PowerPoint\spss gifs\ancova regr\output1.gif"/>
          <p:cNvPicPr/>
          <p:nvPr/>
        </p:nvPicPr>
        <p:blipFill>
          <a:blip r:embed="rId1"/>
          <a:stretch/>
        </p:blipFill>
        <p:spPr>
          <a:xfrm>
            <a:off x="611280" y="2286000"/>
            <a:ext cx="499428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6D5-9C08-457A-951A-B80664FE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Model Summar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7" descr="C:\BCT 689\PowerPoint\spss gifs\ancova regr\output2.gif"/>
          <p:cNvPicPr/>
          <p:nvPr/>
        </p:nvPicPr>
        <p:blipFill>
          <a:blip r:embed="rId1"/>
          <a:stretch/>
        </p:blipFill>
        <p:spPr>
          <a:xfrm>
            <a:off x="2411280" y="2662200"/>
            <a:ext cx="4321440" cy="15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BA1-4997-4275-891C-CD3F6DD3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NOV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7" descr="C:\BCT 689\PowerPoint\spss gifs\ancova regr\output3.gif"/>
          <p:cNvPicPr/>
          <p:nvPr/>
        </p:nvPicPr>
        <p:blipFill>
          <a:blip r:embed="rId1"/>
          <a:stretch/>
        </p:blipFill>
        <p:spPr>
          <a:xfrm>
            <a:off x="1503360" y="2343240"/>
            <a:ext cx="61372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45B-9C58-485B-8CAD-5DEB67E4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efficien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1" name="Picture 7" descr="C:\BCT 689\PowerPoint\spss gifs\ancova regr\output4.gif"/>
          <p:cNvPicPr/>
          <p:nvPr/>
        </p:nvPicPr>
        <p:blipFill>
          <a:blip r:embed="rId1"/>
          <a:stretch/>
        </p:blipFill>
        <p:spPr>
          <a:xfrm>
            <a:off x="1217520" y="2301840"/>
            <a:ext cx="67089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557-B4F3-41E7-91CA-C4232189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5B2-D028-4D2B-A33B-86B7C6F8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GLM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A34F-FA6A-4208-944A-39BF7ECB2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COVA (Regression Approach)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2076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523880" y="411480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941-8BE6-4AF3-AB5C-B644B0F6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39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17440" y="254304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regression approach to ANCOVA to determine if type of undergraduate major and year of matriculation can be used to predict MCAT sco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614-F8BB-4B0C-BC9A-B81B9568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27000" y="1981080"/>
            <a:ext cx="75312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nmtot1: MCAT total, 1992-present, most recent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81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ependent variabl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matyr: Year of matriculation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814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dicator (dummy) variables computed for undergraduate maj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1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spcBef>
                <a:spcPts val="326"/>
              </a:spcBef>
              <a:buClr>
                <a:srgbClr val="eaeaea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dmajor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AutoShape 6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C78-BD1B-484F-8EC9-B710A559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ectly use the regression approach to ANCOVA requires computing indicator (dummy) variables for different values of categorical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2120" y="343224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riables can be computed by using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form procedure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omputing Variabl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76360" indent="-2383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SS syntax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Using Command Syntax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uto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8B2-2FF7-40C0-BB21-224B59D4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580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the dummy variables shown below to represent the three types of  undergraduate majo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842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73120" y="3338640"/>
          <a:ext cx="5842080" cy="2225520"/>
        </p:xfrm>
        <a:graphic>
          <a:graphicData uri="http://schemas.openxmlformats.org/drawingml/2006/table">
            <a:tbl>
              <a:tblPr/>
              <a:tblGrid>
                <a:gridCol w="2705040"/>
                <a:gridCol w="1536840"/>
                <a:gridCol w="1600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ype of Majo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Value of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major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iology/Chemistr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science, heal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 w="5760">
                      <a:solidFill>
                        <a:srgbClr val="ead7f5"/>
                      </a:solidFill>
                    </a:lnB>
                    <a:solidFill>
                      <a:srgbClr val="ead7f5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Other (non-science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d7f5"/>
                      </a:solidFill>
                    </a:lnT>
                    <a:lnB>
                      <a:noFill/>
                    </a:lnB>
                    <a:solidFill>
                      <a:srgbClr val="ead7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42B-24DD-4816-B615-0A88CD33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2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572000" y="2970360"/>
            <a:ext cx="39672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572000" y="2971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2A11-3234-4304-AF18-2D68FAA14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2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570560" y="29703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4800600" y="42670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065-556A-4265-98A4-187DE187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Picture 2" descr="C:\BCT 689\PowerPoint\spss gifs\mlr\regress2.gif"/>
          <p:cNvPicPr/>
          <p:nvPr/>
        </p:nvPicPr>
        <p:blipFill>
          <a:blip r:embed="rId1"/>
          <a:srcRect l="3648" t="0" r="0" b="3125"/>
          <a:stretch/>
        </p:blipFill>
        <p:spPr>
          <a:xfrm>
            <a:off x="4570560" y="2970360"/>
            <a:ext cx="4108320" cy="19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NCOVA (Regression Approach): 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gr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nea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6477120" y="434340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COVA Analysis of Covariance</cp:keywords>
  <dc:language>en-US</dc:language>
  <cp:lastModifiedBy>Windows User</cp:lastModifiedBy>
  <dcterms:modified xsi:type="dcterms:W3CDTF">2011-12-05T18:46:59Z</dcterms:modified>
  <cp:revision>160</cp:revision>
  <dc:subject>Regression Approach to ANCOVA</dc:subject>
  <dc:title>SPSS ANCOVA (Regression) Tutorial</dc:title>
</cp:coreProperties>
</file>